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822A-6D78-4378-BB05-461A0FBCF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AD9F-96B3-40C7-9425-F6B68BF3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0727-BEE1-40B2-8198-301D31624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68F2-FBF2-45BE-9308-F462A26FC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9ACF-5785-415B-ADDC-8DFD184E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6612-1DB3-4346-A270-61280489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855E-BFB0-4C91-B0C4-4B910954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1740-C2E8-4067-B27D-7BF1B49D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144A-58B1-4177-A891-6B4BDDAE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29E2-EC0D-4901-8FD2-44138525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5B16-DAEE-4081-B998-8AA9101A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F19D-4661-4176-9637-21303171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B1DB-DB84-4A8B-AE19-E0EE720CB2DC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3B91-7732-446F-9373-8B4FC0E86DA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55640" y="162828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Critical Thinking on Emerging Powers and South-South Cooperation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oncepts and Practices in Historical Perspectiv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2560" y="90792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cture 1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800px-BRICS_svg"/>
          <p:cNvPicPr/>
          <p:nvPr/>
        </p:nvPicPr>
        <p:blipFill>
          <a:blip r:embed="rId1"/>
          <a:stretch/>
        </p:blipFill>
        <p:spPr>
          <a:xfrm>
            <a:off x="1763640" y="3284640"/>
            <a:ext cx="5761080" cy="29239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3132000" y="6237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ttp://commons.wikimedia.or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176040" y="276120"/>
            <a:ext cx="878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his collection was collated by Xiuli Xu as teaching material on the Emerging Powers and International Development course at the Institute of Development Stud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Emerging Powers and South-South Cooperation in Histo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94920" y="1483920"/>
            <a:ext cx="4327560" cy="280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ndung conference of 195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n-Aligned Movement and G77 since 1960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rious forms of regional cooperation network since 1970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uth-South Coop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A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rgeoning Trilateral coop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万隆会议"/>
          <p:cNvPicPr/>
          <p:nvPr/>
        </p:nvPicPr>
        <p:blipFill>
          <a:blip r:embed="rId1"/>
          <a:stretch/>
        </p:blipFill>
        <p:spPr>
          <a:xfrm>
            <a:off x="4500720" y="4365720"/>
            <a:ext cx="4464000" cy="1977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u=3671520597,1148280981&amp;fm=23&amp;gp=0"/>
          <p:cNvPicPr/>
          <p:nvPr/>
        </p:nvPicPr>
        <p:blipFill>
          <a:blip r:embed="rId2"/>
          <a:stretch/>
        </p:blipFill>
        <p:spPr>
          <a:xfrm>
            <a:off x="4788000" y="1484280"/>
            <a:ext cx="4170240" cy="2782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mundo"/>
          <p:cNvPicPr/>
          <p:nvPr/>
        </p:nvPicPr>
        <p:blipFill>
          <a:blip r:embed="rId3"/>
          <a:stretch/>
        </p:blipFill>
        <p:spPr>
          <a:xfrm>
            <a:off x="395280" y="4365720"/>
            <a:ext cx="4033800" cy="2016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324000" y="6381720"/>
            <a:ext cx="61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ttp://www.lsqn.cn; http://www.china.com.c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56FE-6F82-490B-8B43-99AFD081C946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Principles of SS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dalitie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hasis on technical and economic cooperation, rather than governance interven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inciples: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eace and development; self reliance and mutual respect of sovereign righ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which buit the roots of the current clash between SSC and the established international development system which emphasizes conditionality of good governance, and altruism, rather than mutual benefi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FD89-6FC0-40A2-9B6A-89D8BCD33C3F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Case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05952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To understand the politics and alternatives of country classf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Case 1: Dan Harris, Mick Moore and Hubert Schmitz (2009)  Country Classifications for a Changing World. IDS WORKING PAPER 326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Case 2: The World Bank (2009). </a:t>
            </a:r>
            <a:r>
              <a:rPr b="0" i="1" lang="zh-CN" sz="2000" spc="-1" strike="noStrike">
                <a:solidFill>
                  <a:srgbClr val="000000"/>
                </a:solidFill>
                <a:latin typeface="Calibri"/>
              </a:rPr>
              <a:t>World Development Report 2009: Reshaping Economic Geography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. Washington D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Case 3: UNDP(2013). </a:t>
            </a:r>
            <a:r>
              <a:rPr b="0" i="1" lang="zh-CN" sz="2000" spc="-1" strike="noStrike">
                <a:solidFill>
                  <a:srgbClr val="000000"/>
                </a:solidFill>
                <a:latin typeface="Calibri"/>
              </a:rPr>
              <a:t>2013 Human Development Report: The Rise of the South: Human Progress in a Diverse World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. New York, US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6588000" y="1628640"/>
            <a:ext cx="1800360" cy="2171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" name="Picture 5" descr="cq5dam_web_221_289"/>
          <p:cNvPicPr/>
          <p:nvPr/>
        </p:nvPicPr>
        <p:blipFill>
          <a:blip r:embed="rId2"/>
          <a:stretch/>
        </p:blipFill>
        <p:spPr>
          <a:xfrm>
            <a:off x="6588000" y="3860640"/>
            <a:ext cx="1800360" cy="223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6"/>
          <p:cNvSpPr/>
          <p:nvPr/>
        </p:nvSpPr>
        <p:spPr>
          <a:xfrm>
            <a:off x="971640" y="6237360"/>
            <a:ext cx="611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ttp://electronic.districsides.co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; http://hdr.undp.org/en/reports/glo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1601640"/>
            <a:ext cx="8002440" cy="326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storical review of the concept of "Emerging Powers": country classifications for a changing wor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bates on "Emerging Powers": an innovative len or "an old bottle with new wine"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erging powers and South-South Cooperation in his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Emgerging powers: BR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603440"/>
            <a:ext cx="8002440" cy="16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merging Powers – a category that includes the BRICS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razil, Russia, India, China and South Afric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as well as other key countries such as Mexico, Turkey and Indonesia – are establishing themselves as an influential presence in the global development landscape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图片1"/>
          <p:cNvPicPr/>
          <p:nvPr/>
        </p:nvPicPr>
        <p:blipFill>
          <a:blip r:embed="rId1"/>
          <a:stretch/>
        </p:blipFill>
        <p:spPr>
          <a:xfrm>
            <a:off x="900000" y="3429000"/>
            <a:ext cx="6175440" cy="28796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971640" y="6381720"/>
            <a:ext cx="57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ource:http://news.hexun.com/2009/bricsummit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fferent country catagories embedded in different global con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6560" y="1773000"/>
            <a:ext cx="3386160" cy="24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sing Pow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erging mark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erging econom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eat pow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emerging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ddle pow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5940360" y="1628640"/>
            <a:ext cx="27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924360" y="1773360"/>
            <a:ext cx="3600360" cy="178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developing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the thrid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global so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466560" y="4365720"/>
            <a:ext cx="3600720" cy="178596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established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industrialized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developed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the North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4356000" y="4365720"/>
            <a:ext cx="3814920" cy="1343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least developed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low-income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fragi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403D-3B31-4BA2-9739-F7FEFEA05D23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fferent country catagories embedded in different global context: how the Western view non-western worl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explores the discourse dynamics and evolution of the global order underpinning different narratives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rious forms of wording rests with different power structure behind international development regime and conceptions about the relations between countries in different global contex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k9564"/>
          <p:cNvPicPr/>
          <p:nvPr/>
        </p:nvPicPr>
        <p:blipFill>
          <a:blip r:embed="rId1"/>
          <a:stretch/>
        </p:blipFill>
        <p:spPr>
          <a:xfrm>
            <a:off x="4643280" y="1628640"/>
            <a:ext cx="1729080" cy="244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517X2JH9YWL__BO2,204,203,200_PIsitb-sticker-arrow-click,TopRight,35,-76_SX385_SY500_CR,0,0,385,500_SH20_OU02_"/>
          <p:cNvPicPr/>
          <p:nvPr/>
        </p:nvPicPr>
        <p:blipFill>
          <a:blip r:embed="rId2"/>
          <a:stretch/>
        </p:blipFill>
        <p:spPr>
          <a:xfrm>
            <a:off x="4643280" y="4149720"/>
            <a:ext cx="1729080" cy="218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41TXzWIyCSL__BO2,204,203,200_PIsitb-sticker-arrow-click,TopRight,35,-76_SX385_SY500_CR,0,0,385,500_SH20_OU02_"/>
          <p:cNvPicPr/>
          <p:nvPr/>
        </p:nvPicPr>
        <p:blipFill>
          <a:blip r:embed="rId3"/>
          <a:stretch/>
        </p:blipFill>
        <p:spPr>
          <a:xfrm>
            <a:off x="6443640" y="1628640"/>
            <a:ext cx="1773360" cy="27432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611280" y="6237360"/>
            <a:ext cx="65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ttp://www.ebay.com.hk; http://www.amazon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stablished perceptions about the relations between countri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hind the country categ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29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istinction between developing and developed countries has long been central to development studies and to debates on development policy (Harris et al.,200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ichotomous view between developed and undeveloped, rich and poor, North and South has been established to lead international development strategies, policies and practi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cq5dam_web_221_289"/>
          <p:cNvPicPr/>
          <p:nvPr/>
        </p:nvPicPr>
        <p:blipFill>
          <a:blip r:embed="rId1"/>
          <a:stretch/>
        </p:blipFill>
        <p:spPr>
          <a:xfrm>
            <a:off x="468360" y="4581360"/>
            <a:ext cx="1544760" cy="18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8" name="Picture 5" descr="G77"/>
          <p:cNvPicPr/>
          <p:nvPr/>
        </p:nvPicPr>
        <p:blipFill>
          <a:blip r:embed="rId2"/>
          <a:stretch/>
        </p:blipFill>
        <p:spPr>
          <a:xfrm>
            <a:off x="2124000" y="4581360"/>
            <a:ext cx="1665360" cy="18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9" name="Picture 6" descr="布雷顿森林会议"/>
          <p:cNvPicPr/>
          <p:nvPr/>
        </p:nvPicPr>
        <p:blipFill>
          <a:blip r:embed="rId3"/>
          <a:stretch/>
        </p:blipFill>
        <p:spPr>
          <a:xfrm>
            <a:off x="3851280" y="4581360"/>
            <a:ext cx="4826160" cy="18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0" name="Text Box 7"/>
          <p:cNvSpPr/>
          <p:nvPr/>
        </p:nvSpPr>
        <p:spPr>
          <a:xfrm>
            <a:off x="469800" y="6524640"/>
            <a:ext cx="82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ttp://hi.baidu.com; http://www.pep.com.c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ttp://hdr.undp.org/en/reports/glo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nderstanding current international development regime in historical review (Li Xiaoyun,2013; Preston, 200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otic aethe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ig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ona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peration 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从利文斯顿到比尔盖茨"/>
          <p:cNvPicPr/>
          <p:nvPr/>
        </p:nvPicPr>
        <p:blipFill>
          <a:blip r:embed="rId1"/>
          <a:stretch/>
        </p:blipFill>
        <p:spPr>
          <a:xfrm>
            <a:off x="5724360" y="1701720"/>
            <a:ext cx="2913120" cy="486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4" name="Picture 5" descr="图片4"/>
          <p:cNvPicPr/>
          <p:nvPr/>
        </p:nvPicPr>
        <p:blipFill>
          <a:blip r:embed="rId2"/>
          <a:stretch/>
        </p:blipFill>
        <p:spPr>
          <a:xfrm>
            <a:off x="828720" y="4724280"/>
            <a:ext cx="4832280" cy="1887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5" name="Text Box 6"/>
          <p:cNvSpPr/>
          <p:nvPr/>
        </p:nvSpPr>
        <p:spPr>
          <a:xfrm>
            <a:off x="396720" y="6622920"/>
            <a:ext cx="856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ource: http://online.barrons.com/article/SB50001424053111903747504579185800700741812.html#articleTabs_article%3D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Debates on "emerging powers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8280" y="1601640"/>
            <a:ext cx="4475160" cy="326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think it is a strong tool to understand the current global system characterized by cumulatively polycentric and burgeoning pluralist landscape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le others are highly sceptical to the concept with various concern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images4HRC1QXB"/>
          <p:cNvPicPr/>
          <p:nvPr/>
        </p:nvPicPr>
        <p:blipFill>
          <a:blip r:embed="rId1"/>
          <a:stretch/>
        </p:blipFill>
        <p:spPr>
          <a:xfrm>
            <a:off x="5003640" y="1628640"/>
            <a:ext cx="3651480" cy="2664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5508720" y="4508640"/>
            <a:ext cx="34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ttp://www.belloflostsouls.n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Debates on "emerging powers": 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just another fashionable idea promoted by governm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ICS grouping, expanding to include other ‘emerging donor’ states, is divergent and heterogeneou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RICS’ diversity of interests means they cannot offer a collective alternative to the existing aid architectur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lash between development models will and has emerg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predicted an imminent economic decline for the rising powers, including the BRIC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1T17:53:00Z</dcterms:created>
  <dc:creator>Xu Xiuli</dc:creator>
  <dc:description/>
  <cp:keywords/>
  <dc:language>en-US</dc:language>
  <cp:lastModifiedBy>Beth Mudford</cp:lastModifiedBy>
  <dcterms:modified xsi:type="dcterms:W3CDTF">2014-12-02T16:08:49Z</dcterms:modified>
  <cp:revision>10</cp:revision>
  <dc:subject/>
  <dc:title>Lecture 1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