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2724-AEFB-4CAA-BFCF-62DE5DE3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04AF-0C7B-4FB1-B412-0DA355EB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2E1-BB6C-4DE7-975C-D21D4DA0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8AF-2E47-408A-899B-D9BF908C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3B1F-9921-4436-BE3C-890C663D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D2D-BC79-48A0-AC99-4526E370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BD50-80FF-4B6F-A473-435A8723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2CF6-4E97-475D-B134-F3C2FF65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C42-1BCF-4437-BEC8-C8C3C6C1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0FE0-35B0-4EF8-86A5-3D407025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48A-691E-4055-941C-9FBB2472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7E8D-537F-4D52-BD27-A1BADC88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967D-D236-4318-83CF-F236BDD3955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FBAF-292E-497E-984A-CFA810606C0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57080" y="1628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Aid, Trade and Investmen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From Aid Effectiveness to Development Effectiveness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2560" y="9079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cture 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6_152512_1"/>
          <p:cNvPicPr/>
          <p:nvPr/>
        </p:nvPicPr>
        <p:blipFill>
          <a:blip r:embed="rId1"/>
          <a:stretch/>
        </p:blipFill>
        <p:spPr>
          <a:xfrm>
            <a:off x="1763640" y="3068640"/>
            <a:ext cx="5713560" cy="321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Text Box 5"/>
          <p:cNvSpPr/>
          <p:nvPr/>
        </p:nvSpPr>
        <p:spPr>
          <a:xfrm>
            <a:off x="1332000" y="6381720"/>
            <a:ext cx="67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urce:http://cohd.cau.edu.cn/art/2011/12/10/art_8574_162190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303120" y="241200"/>
            <a:ext cx="878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his collection was collated by Xiuli Xu as teaching material on the Emerging Powers and International Development course at the Institute of Development Stu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64A9-CBF2-4F84-97AA-9E9B1C3D3A5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2. 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fferences and commonalities between aid of established donors and of the BRICS countries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story, principles, modalities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1280"/>
            <a:ext cx="4475160" cy="341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Institutions and 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Definitions, volume and com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Instruments and moda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rules and standards (wester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a. transpar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b. tied aid and export cred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c. environment and social prote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d. corruption and gover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e. deb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66560" y="5157720"/>
            <a:ext cx="8137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räutigam, D. (2010). </a:t>
            </a:r>
            <a:r>
              <a:rPr b="1" lang="zh-CN" sz="1600" spc="-1" strike="noStrike">
                <a:solidFill>
                  <a:srgbClr val="1f497d"/>
                </a:solidFill>
                <a:latin typeface="Arial"/>
              </a:rPr>
              <a:t>China, Africa and the international aid architecture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African development 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0504d"/>
                </a:solidFill>
                <a:latin typeface="Arial"/>
              </a:rPr>
              <a:t>Many who comment on the economic cooperation activities by emerging powers and who compare them with ODA always end up by comparing apples and oran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003640" y="3068640"/>
            <a:ext cx="38880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Rules and standard (emereging pow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Aid and export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Win-win, mutural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No governance condi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Social and Environment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u=2168443318,118197932&amp;fm=21&amp;gp=0"/>
          <p:cNvPicPr/>
          <p:nvPr/>
        </p:nvPicPr>
        <p:blipFill>
          <a:blip r:embed="rId1"/>
          <a:stretch/>
        </p:blipFill>
        <p:spPr>
          <a:xfrm>
            <a:off x="5450040" y="1557360"/>
            <a:ext cx="993600" cy="1087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u=1533514773,3537673295&amp;fm=23&amp;gp=0"/>
          <p:cNvPicPr/>
          <p:nvPr/>
        </p:nvPicPr>
        <p:blipFill>
          <a:blip r:embed="rId2"/>
          <a:stretch/>
        </p:blipFill>
        <p:spPr>
          <a:xfrm>
            <a:off x="6875640" y="1496880"/>
            <a:ext cx="1206360" cy="1211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5003640" y="263700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ipic.com; http://www.tplm123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C5A6-A6F8-4D9A-B499-96CD00776B5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65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istorical review of aid and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business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t perceptions of firms since colonial er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63272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role of the private sector is</a:t>
            </a:r>
            <a:r>
              <a:rPr b="0" lang="en-US" sz="1800" spc="-1" strike="noStrike" u="sng">
                <a:solidFill>
                  <a:srgbClr val="1f497d"/>
                </a:solidFill>
                <a:uFillTx/>
                <a:latin typeface="Calibri"/>
              </a:rPr>
              <a:t> traditionally a sensitive and controversial issu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development studi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the independence of countries in Africa, Asia and Latin America, when development studies and theories got a boost, the reality was often one where </a:t>
            </a:r>
            <a:r>
              <a:rPr b="0" lang="en-US" sz="1800" spc="-1" strike="noStrike" u="sng">
                <a:solidFill>
                  <a:srgbClr val="1f497d"/>
                </a:solidFill>
                <a:uFillTx/>
                <a:latin typeface="Calibri"/>
              </a:rPr>
              <a:t>large, white-owned private business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which had for decades or centuries </a:t>
            </a:r>
            <a:r>
              <a:rPr b="0" lang="en-US" sz="1800" spc="-1" strike="noStrike" u="sng">
                <a:solidFill>
                  <a:srgbClr val="1f497d"/>
                </a:solidFill>
                <a:uFillTx/>
                <a:latin typeface="Calibri"/>
              </a:rPr>
              <a:t>enjoyed unfettered support from colonial administrators, exploited the people and resourc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f the newly liberated nation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t</a:t>
            </a:r>
            <a:r>
              <a:rPr b="1" lang="en-US" sz="1800" spc="-1" strike="noStrike" u="sng">
                <a:solidFill>
                  <a:srgbClr val="1f497d"/>
                </a:solidFill>
                <a:uFillTx/>
                <a:latin typeface="Calibri"/>
              </a:rPr>
              <a:t> image of the private secto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as solidified by continuation of </a:t>
            </a:r>
            <a:r>
              <a:rPr b="0" lang="en-US" sz="1800" spc="-1" strike="noStrike" u="sng">
                <a:solidFill>
                  <a:srgbClr val="1f497d"/>
                </a:solidFill>
                <a:uFillTx/>
                <a:latin typeface="Calibri"/>
              </a:rPr>
              <a:t>illicit activities by quite some multinational companies in the Global Sou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This history greatly influenced development practitioner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'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ut reactions t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'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rivate s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692360" y="6033960"/>
            <a:ext cx="64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Knorring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(2010):A balancing act: private actors in development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467B-6C96-4FF1-BD24-0E65EBCC1C7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istorical review of aid and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business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t perceptions of firms since colonial er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269720"/>
            <a:ext cx="8229600" cy="532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OECD  donors  have  a  long  history  of  using  ODA  to  support  exports.  As  recently  as  the  mid-1990s,  Germany  directed  85%  of  its  ODA  to  infrastructure  projects,  rail,  and  ships  tha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 German firms and technologies (Evans and Oye 2000: 129). However, although the OECD norms  on  the  use  of  foreign  aid  in  officially  supported  export  credits  are  voluntary,  </a:t>
            </a:r>
            <a:r>
              <a:rPr b="0" lang="en-US" sz="1800" spc="-1" strike="noStrike" u="sng">
                <a:solidFill>
                  <a:srgbClr val="1f497d"/>
                </a:solidFill>
                <a:uFillTx/>
                <a:latin typeface="Calibri"/>
              </a:rPr>
              <a:t>they  have been successful in gradually bringing conformity into a contentious area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Links between aid and exports began to be reduced when, after long negotiations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 OECD  members  agreed  to  </a:t>
            </a:r>
            <a:r>
              <a:rPr b="1" lang="en-US" sz="1800" spc="-1" strike="noStrike" u="sng">
                <a:solidFill>
                  <a:srgbClr val="1f497d"/>
                </a:solidFill>
                <a:uFillTx/>
                <a:latin typeface="Calibri"/>
              </a:rPr>
              <a:t>the  1978  Arrangement  on Officially  Supported  Export  Credi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and  its  extension  in  the  1992 </a:t>
            </a:r>
            <a:r>
              <a:rPr b="1" lang="en-US" sz="18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1" lang="en-US" sz="1800" spc="-1" strike="noStrike" u="sng">
                <a:solidFill>
                  <a:srgbClr val="1f497d"/>
                </a:solidFill>
                <a:uFillTx/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1f497d"/>
                </a:solidFill>
                <a:uFillTx/>
                <a:latin typeface="Calibri"/>
              </a:rPr>
              <a:t>Helsinki  Package</a:t>
            </a:r>
            <a:r>
              <a:rPr b="1" lang="en-US" sz="1800" spc="-1" strike="noStrike" u="sng">
                <a:solidFill>
                  <a:srgbClr val="1f497d"/>
                </a:solidFill>
                <a:uFillTx/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, and recently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800" spc="-1" strike="noStrike" u="sng">
                <a:solidFill>
                  <a:srgbClr val="1f497d"/>
                </a:solidFill>
                <a:uFillTx/>
                <a:latin typeface="Calibri"/>
              </a:rPr>
              <a:t>a </a:t>
            </a:r>
            <a:r>
              <a:rPr b="1" lang="en-US" sz="1800" spc="-1" strike="noStrike" u="sng">
                <a:solidFill>
                  <a:srgbClr val="1f497d"/>
                </a:solidFill>
                <a:uFillTx/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1f497d"/>
                </a:solidFill>
                <a:uFillTx/>
                <a:latin typeface="Calibri"/>
              </a:rPr>
              <a:t>gentleman</a:t>
            </a:r>
            <a:r>
              <a:rPr b="1" lang="en-US" sz="1800" spc="-1" strike="noStrike" u="sng">
                <a:solidFill>
                  <a:srgbClr val="1f497d"/>
                </a:solidFill>
                <a:uFillTx/>
                <a:latin typeface="Arial"/>
              </a:rPr>
              <a:t>’</a:t>
            </a:r>
            <a:r>
              <a:rPr b="1" lang="en-US" sz="1800" spc="-1" strike="noStrike" u="sng">
                <a:solidFill>
                  <a:srgbClr val="1f497d"/>
                </a:solidFill>
                <a:uFillTx/>
                <a:latin typeface="Calibri"/>
              </a:rPr>
              <a:t>s agreements</a:t>
            </a:r>
            <a:r>
              <a:rPr b="1" lang="en-US" sz="1800" spc="-1" strike="noStrike" u="sng">
                <a:solidFill>
                  <a:srgbClr val="1f497d"/>
                </a:solidFill>
                <a:uFillTx/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Many years ago, Europe, the U.S., Canada and Japan regularly had trade disputes concerning tied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id. Tied aid in the context of export credits is considered somewhat separate from the issue of general tying of aid to domestic goods and services. It was defined 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id credits for which the motivation is largely (or significantly) connected to promoting the sale of goods from the donor govern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 coun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093080" y="6597720"/>
            <a:ext cx="154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räutigam, D. (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B62C-DC87-473C-9D35-0C2FEE4418A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istorical review of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ai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business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t perceptions of firms since colonial 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526716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ree stages or mechanisms of linking private sectors to development and poverty reduction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 intervention of the firm </a:t>
            </a:r>
            <a:r>
              <a:rPr b="0" lang="en-US" sz="2000" spc="-1" strike="noStrike" u="sng">
                <a:solidFill>
                  <a:srgbClr val="1f497d"/>
                </a:solidFill>
                <a:uFillTx/>
                <a:latin typeface="Calibri"/>
              </a:rPr>
              <a:t>through foundations or ethic cod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e.g., fair trade facilitated by UNCTAD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f497d"/>
                </a:solidFill>
                <a:uFillTx/>
                <a:latin typeface="Calibri"/>
              </a:rPr>
              <a:t>through public private partnership (PPP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provide public goods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king </a:t>
            </a:r>
            <a:r>
              <a:rPr b="0" lang="en-US" sz="2000" spc="-1" strike="noStrike" u="sng">
                <a:solidFill>
                  <a:srgbClr val="1f497d"/>
                </a:solidFill>
                <a:uFillTx/>
                <a:latin typeface="Calibri"/>
              </a:rPr>
              <a:t>CS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s a framework for development agencies and corporations to work togethe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2009121611159994"/>
          <p:cNvPicPr/>
          <p:nvPr/>
        </p:nvPicPr>
        <p:blipFill>
          <a:blip r:embed="rId1"/>
          <a:stretch/>
        </p:blipFill>
        <p:spPr>
          <a:xfrm>
            <a:off x="5796000" y="3645000"/>
            <a:ext cx="2879640" cy="23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Picture 5" descr="6-198-20071130150750"/>
          <p:cNvPicPr/>
          <p:nvPr/>
        </p:nvPicPr>
        <p:blipFill>
          <a:blip r:embed="rId2"/>
          <a:stretch/>
        </p:blipFill>
        <p:spPr>
          <a:xfrm>
            <a:off x="5796000" y="1557360"/>
            <a:ext cx="2879640" cy="196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Text Box 6"/>
          <p:cNvSpPr/>
          <p:nvPr/>
        </p:nvSpPr>
        <p:spPr>
          <a:xfrm>
            <a:off x="5867280" y="6093000"/>
            <a:ext cx="327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inance.mop.com; http://www.gemag.com.c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2F8F-0220-481C-8414-C25102D8D11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02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id, trade and investmen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 and private link mechanisms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aid as bridge of public-private partnersh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thodox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delinking aid from private capit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ay rule out the  possibility  of  public-private  partnership  where  official  development assistance can leverage private funds to support large-scale infrastructure project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aid as vanguard of FD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Apart  from  innovative  co-financing  mechanisms,  aid can  also  have  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nguard effect of facilitating FDI into less developed countries (LDCs). The Japanese government has sought to use aid to facilitate FDI because aid can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mit  tacit  information  on  the  business  environment  of  the recipient country and reduce country risk with the provision of a quasi government  guarante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aid as a foothold for linking into global value cha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f81bd"/>
                </a:solidFill>
                <a:latin typeface="Calibri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Aid could enhance learning process by sharing technical and managerial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nowledg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in trade to upgrade their industrial structur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020000" y="62373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u Jiajun(20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601640"/>
            <a:ext cx="8002440" cy="326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om aid effectiveness to Development Effectiveness: broader portfolio of development strategies and polic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ferences and commonalities between aid of established donors and of the BRICS countries: history, principles, modalities, geographic and sector distribution, scale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storical review of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aid and busi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different perceptions of firms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in developmen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ce colonial 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id, trade and investment: public and private link mechan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From aid effectiveness to Development Effectivenes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ader portfolio of development strategies and poli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发展有效性"/>
          <p:cNvPicPr/>
          <p:nvPr/>
        </p:nvPicPr>
        <p:blipFill>
          <a:blip r:embed="rId1"/>
          <a:stretch/>
        </p:blipFill>
        <p:spPr>
          <a:xfrm>
            <a:off x="971640" y="1703520"/>
            <a:ext cx="7345440" cy="460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" name="Text Box 4"/>
          <p:cNvSpPr/>
          <p:nvPr/>
        </p:nvSpPr>
        <p:spPr>
          <a:xfrm>
            <a:off x="971640" y="6381720"/>
            <a:ext cx="71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urce: http://blog.sina.com.cn/s/blog_86a61ff70100ya3v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A0B5-6F8B-40E8-A830-8E80F9EFB55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Busan Declar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SAN Partnership for Effective Development Coop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f497d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捕获"/>
          <p:cNvPicPr/>
          <p:nvPr/>
        </p:nvPicPr>
        <p:blipFill>
          <a:blip r:embed="rId1"/>
          <a:stretch/>
        </p:blipFill>
        <p:spPr>
          <a:xfrm>
            <a:off x="5867280" y="1844640"/>
            <a:ext cx="3098880" cy="31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Rectangle 5"/>
          <p:cNvSpPr/>
          <p:nvPr/>
        </p:nvSpPr>
        <p:spPr>
          <a:xfrm>
            <a:off x="468360" y="1849320"/>
            <a:ext cx="5327640" cy="352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f497d"/>
                </a:solidFill>
                <a:uFillTx/>
                <a:latin typeface="Calibri"/>
              </a:rPr>
              <a:t>development  co-operation  is  only  part  of  the  solution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ore effective co-operation should not lead to a reduction in resources for development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ot  just  development  polici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 enable countries to make full use of the opportunities presented by international investment and trade, and to expand their domestic capital mark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ke  action  to facilitate,  leverage  and  strengthen  the  impact  of  </a:t>
            </a:r>
            <a:r>
              <a:rPr b="0" lang="en-US" sz="2000" spc="-1" strike="noStrike" u="sng">
                <a:solidFill>
                  <a:srgbClr val="1f497d"/>
                </a:solidFill>
                <a:uFillTx/>
                <a:latin typeface="Calibri"/>
              </a:rPr>
              <a:t>diverse  sources  of  finance  to  support  sustainable and  inclusive 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9A88-A22E-4A59-815A-4C08E25A3DB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2. 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fferences and commonalities between the aid of established donors and of the BRICS countries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story, principles, modalities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03_clip_image002"/>
          <p:cNvPicPr/>
          <p:nvPr/>
        </p:nvPicPr>
        <p:blipFill>
          <a:blip r:embed="rId1"/>
          <a:stretch/>
        </p:blipFill>
        <p:spPr>
          <a:xfrm>
            <a:off x="3059280" y="4941720"/>
            <a:ext cx="2663640" cy="165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F134154267"/>
          <p:cNvPicPr/>
          <p:nvPr/>
        </p:nvPicPr>
        <p:blipFill>
          <a:blip r:embed="rId2"/>
          <a:stretch/>
        </p:blipFill>
        <p:spPr>
          <a:xfrm>
            <a:off x="252360" y="3500280"/>
            <a:ext cx="2735280" cy="201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u=190127365,1523381565&amp;fm=21&amp;gp=0"/>
          <p:cNvPicPr/>
          <p:nvPr/>
        </p:nvPicPr>
        <p:blipFill>
          <a:blip r:embed="rId3"/>
          <a:stretch/>
        </p:blipFill>
        <p:spPr>
          <a:xfrm>
            <a:off x="3059280" y="3211560"/>
            <a:ext cx="2663640" cy="1657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http://imgsrc.baidu.com/forum/w%3D580/sign=6d7e85c0f3deb48ffb69a1d6c01e3aef/cc7bc6fdfc039245460cfeae8794a4c27c1e250e.jpg"/>
          <p:cNvPicPr/>
          <p:nvPr/>
        </p:nvPicPr>
        <p:blipFill>
          <a:blip r:embed="rId4"/>
          <a:stretch/>
        </p:blipFill>
        <p:spPr>
          <a:xfrm>
            <a:off x="252360" y="1484280"/>
            <a:ext cx="2737080" cy="1914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u=3888018723,1021869843&amp;fm=21&amp;gp=0"/>
          <p:cNvPicPr/>
          <p:nvPr/>
        </p:nvPicPr>
        <p:blipFill>
          <a:blip r:embed="rId5"/>
          <a:stretch/>
        </p:blipFill>
        <p:spPr>
          <a:xfrm>
            <a:off x="3059280" y="1484280"/>
            <a:ext cx="2651040" cy="1662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u=1260788595,4205794506&amp;fm=23&amp;gp=0"/>
          <p:cNvPicPr/>
          <p:nvPr/>
        </p:nvPicPr>
        <p:blipFill>
          <a:blip r:embed="rId6"/>
          <a:stretch/>
        </p:blipFill>
        <p:spPr>
          <a:xfrm>
            <a:off x="5753160" y="1557360"/>
            <a:ext cx="3390840" cy="869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news.xinhuanet.com/newscenter/2009-04/27/xin_4520406262335734144986.jpg"/>
          <p:cNvPicPr/>
          <p:nvPr/>
        </p:nvPicPr>
        <p:blipFill>
          <a:blip r:embed="rId7"/>
          <a:stretch/>
        </p:blipFill>
        <p:spPr>
          <a:xfrm>
            <a:off x="5805360" y="2708280"/>
            <a:ext cx="3159360" cy="2160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0"/>
          <p:cNvSpPr/>
          <p:nvPr/>
        </p:nvSpPr>
        <p:spPr>
          <a:xfrm>
            <a:off x="5940360" y="5157720"/>
            <a:ext cx="286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ifferent history and cultural backgroud: aid and business in Western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179280" y="5516640"/>
            <a:ext cx="3095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inacatholic.org; http://wiki.cnrepair.com ; http://www.52yixin.com ; http://61.181.245.61; http://t.sohu.com; http://edu.cnxianzai.com; http://news.msn.soufun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8258-29BA-4C2A-8F2E-A7311E788A5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2. 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fferences and commonalities between the aid of established donors and of the BRICS countries: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story, principles, modalities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20110706102942-238524019"/>
          <p:cNvPicPr/>
          <p:nvPr/>
        </p:nvPicPr>
        <p:blipFill>
          <a:blip r:embed="rId1"/>
          <a:stretch/>
        </p:blipFill>
        <p:spPr>
          <a:xfrm>
            <a:off x="468360" y="1413000"/>
            <a:ext cx="3219480" cy="1973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nt100916018"/>
          <p:cNvPicPr/>
          <p:nvPr/>
        </p:nvPicPr>
        <p:blipFill>
          <a:blip r:embed="rId2"/>
          <a:stretch/>
        </p:blipFill>
        <p:spPr>
          <a:xfrm>
            <a:off x="468360" y="3429000"/>
            <a:ext cx="3238560" cy="2087640"/>
          </a:xfrm>
          <a:prstGeom prst="rect">
            <a:avLst/>
          </a:prstGeom>
          <a:ln w="0">
            <a:noFill/>
          </a:ln>
        </p:spPr>
      </p:pic>
      <p:pic>
        <p:nvPicPr>
          <p:cNvPr id="71" name="图片 3" descr="Img246202408.jpg"/>
          <p:cNvPicPr/>
          <p:nvPr/>
        </p:nvPicPr>
        <p:blipFill>
          <a:blip r:embed="rId3"/>
          <a:stretch/>
        </p:blipFill>
        <p:spPr>
          <a:xfrm>
            <a:off x="3780000" y="3645000"/>
            <a:ext cx="1800000" cy="244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u=302001257,3172095387&amp;fm=23&amp;gp=0"/>
          <p:cNvPicPr/>
          <p:nvPr/>
        </p:nvPicPr>
        <p:blipFill>
          <a:blip r:embed="rId4"/>
          <a:stretch/>
        </p:blipFill>
        <p:spPr>
          <a:xfrm>
            <a:off x="3780000" y="1413000"/>
            <a:ext cx="3227400" cy="218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u=2295611419,3014115778&amp;fm=23&amp;gp=0"/>
          <p:cNvPicPr/>
          <p:nvPr/>
        </p:nvPicPr>
        <p:blipFill>
          <a:blip r:embed="rId5"/>
          <a:stretch/>
        </p:blipFill>
        <p:spPr>
          <a:xfrm>
            <a:off x="5651640" y="4292640"/>
            <a:ext cx="3241440" cy="17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" name="Text Box 8"/>
          <p:cNvSpPr/>
          <p:nvPr/>
        </p:nvSpPr>
        <p:spPr>
          <a:xfrm>
            <a:off x="1763640" y="610092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ifferent history and cultural background: aid, cooperation and business in emerging powers, taking China as a case in parti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68360" y="5516640"/>
            <a:ext cx="327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aike.soso.com; http://gb.cri.cn; http://news.sohu.com; http://roll.sohu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57BD-8BD2-4CD4-8E66-C6819F811E2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2. 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fferences and commonalities between the aid of established donors and of the BRICS countries: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story, principles, modalities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17720"/>
            <a:ext cx="3825720" cy="32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The economic and social strucuture of these new donors defines a</a:t>
            </a:r>
            <a:r>
              <a:rPr b="1" lang="zh-CN" sz="2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lang="zh-CN" sz="2200" spc="-1" strike="noStrike" u="sng">
                <a:solidFill>
                  <a:srgbClr val="4f81bd"/>
                </a:solidFill>
                <a:uFillTx/>
                <a:latin typeface="Calibri"/>
              </a:rPr>
              <a:t>"dual position"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 as developing countries on the one hand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... and development partners in their external relations on the ot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DSC00211"/>
          <p:cNvPicPr/>
          <p:nvPr/>
        </p:nvPicPr>
        <p:blipFill>
          <a:blip r:embed="rId1"/>
          <a:stretch/>
        </p:blipFill>
        <p:spPr>
          <a:xfrm>
            <a:off x="4500720" y="1916280"/>
            <a:ext cx="4319280" cy="28652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500720" y="4869000"/>
            <a:ext cx="43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gyetong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hart 2" descr=""/>
          <p:cNvPicPr/>
          <p:nvPr/>
        </p:nvPicPr>
        <p:blipFill>
          <a:blip r:embed="rId1"/>
          <a:stretch/>
        </p:blipFill>
        <p:spPr>
          <a:xfrm>
            <a:off x="-25560" y="1197000"/>
            <a:ext cx="9205920" cy="56293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612720" y="260280"/>
            <a:ext cx="79916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What did you read from the figure? Implications to emerging powers and international development reg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435640" y="6453360"/>
            <a:ext cx="36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urce: Putzel (2013), presentation in CAU,Beij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360桌面截图20131221180839"/>
          <p:cNvPicPr/>
          <p:nvPr/>
        </p:nvPicPr>
        <p:blipFill>
          <a:blip r:embed="rId1"/>
          <a:stretch/>
        </p:blipFill>
        <p:spPr>
          <a:xfrm>
            <a:off x="0" y="189000"/>
            <a:ext cx="9036000" cy="61689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435640" y="6453360"/>
            <a:ext cx="36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urce: Li (2013), prese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1T17:53:00Z</dcterms:created>
  <dc:creator>Xu Xiuli</dc:creator>
  <dc:description/>
  <cp:keywords/>
  <dc:language>en-US</dc:language>
  <cp:lastModifiedBy>Beth Mudford</cp:lastModifiedBy>
  <dcterms:modified xsi:type="dcterms:W3CDTF">2014-12-02T16:09:19Z</dcterms:modified>
  <cp:revision>7</cp:revision>
  <dc:subject/>
  <dc:title>Lecture 1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