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59DF-4E2D-455D-A458-C82F4ACC0C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4BEB-7F74-4453-9B50-38887EA2E5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2024-DAB0-4D73-9F13-A84D677DCB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1BED-976D-40DA-8A33-865B323D3E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FA2C-91C6-4C43-B218-8CFD818992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56DC-EC64-45EC-914B-E8AE183C76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83AE-F5F0-40BA-AE10-8F29875A16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075D-9755-4A78-9ADB-54AE6521CE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289-1D68-4262-B199-BFDAB3445B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8FB7-14A4-4071-B902-E38793265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A19-E9A6-4B46-99F6-B63956BD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5D6-7C3C-4738-A5E8-FA81B0C7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31919-69A8-4FF6-8A6B-5BEBDAE3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5E4C1-0DDD-4805-B0B2-54F079D7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9AEED-EF52-4DF0-B99B-685CB335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ED44C-223C-44FE-8FE5-FC282F9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DF9A2-EA43-4EDD-BD33-F012E11E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AFFFC-1F0F-4382-8D15-632DD4B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658BE-2D8F-455D-B4E5-F895048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D5D3D-7130-43B3-B30B-33E8105B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FD97F-680C-458A-99BB-98D89298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8E4C4-7404-4AFB-9A5A-62B53C0C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8AD-E2A7-4228-B682-93CA9B60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F177A-BA8E-4A54-87FA-386CD6A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FF509-1501-4E9A-BCE5-4B9B9B8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25FFA-7467-4F0A-8F75-877A408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FF069-A4C8-42DF-A871-4E6FBEFC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44255-164E-4371-B687-ECB4E6D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05D59-52D2-439B-ACEB-EEC2F37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39014-C673-496A-9AD3-5536226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73E52-7530-4DB8-AC20-67C61C2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D1044-CD29-4C88-8355-BC13E63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CEE48-FEE3-4BCB-A83E-4BBEDBCB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123-B646-4E00-9E66-C6F2C1C2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F9F69-B04D-4840-9F94-1F5AC1D5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B0669-D2F0-4AC3-8378-35954A88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780E-2954-443B-9233-5209ECA7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B6FD0-4D6C-485E-8F70-8DA9942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49981-A476-4401-9C43-EE25309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5973C-DF51-4E26-AE90-1C628C67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0BB9-F591-4BA1-95E6-BA352F52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6F9A-E4FA-4FD0-8B8D-04EA9C3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B8015-FCA8-4B4F-988C-7D8CF2B2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C894-BDD3-40ED-952B-188882DC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739D-DE14-4991-8B14-FC1861C4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6731C-4203-48A3-A865-2F664CD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11D7A-82C5-4D84-B6D4-C1858513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F1DE1-C995-4E4B-B701-C9037509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4AD0E-2CB7-450E-9172-A0DC9877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B5A75-1A4B-4F97-9307-EA7DCE3B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B7B84-4012-4DB3-834A-D6315F77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F011A-A235-47E1-9A43-B2C39E2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F5E53-1990-4A8E-BBF0-63FB272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87C99-EBD2-47AE-9BC1-A937E6D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6798E-7293-4687-B33E-A6F2BED9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9611-C596-4B16-B34F-917E440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37401-5170-40F6-879B-9E0FEA6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6064D-D9E3-42D8-BF18-0CF9D7E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3C48D-F202-4D50-8200-B9A8710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6F245-F06D-498A-ADAB-D25804D2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4F725-6ECB-4F00-8FD6-8468ABF0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A047-5A6A-4D8D-A5BF-FC958E8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C76-1BCB-4CE9-94B8-36E9F1EE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08F-D7BE-4602-9DCA-1D88CA26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8201-068E-4A35-9787-1A53AEF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3955-2796-4A51-989A-7A1C1BD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326-221A-4E53-8FE4-BA569AD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4903-9504-445D-A27C-D4343822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6046-58D8-41FB-8CF0-F5A1D12F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50F-EEBB-4ED5-B205-D39E83D9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82CF-2778-421D-A14E-0EBCCD94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FBDA-4CF2-4596-94A5-1EB932B2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126F-C104-4223-9E1B-38982831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A48E-745B-413D-A413-E94476D7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1758-0589-4D9D-8CD8-CD87FC99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CC55-F3F9-4884-96E7-D16A9FC4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305A-64BD-4A08-81BC-FF5BF0F9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E0E-8AB3-4223-B082-8CFB67CD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A4FB-6789-4D9C-898A-6B2B3870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7A52-E1F6-41A4-976E-6EEC6431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3745-3260-4B3D-8D98-DB0A20FB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C1D9-B9EB-4747-B053-54FE4EB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FF8AA-AE1B-4EC2-9F2D-A5BAF338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1B6D-70E5-407D-8652-036B957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99C4-2C6D-4202-A2F7-12F9B0EF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C7831-948B-4F36-8CD8-666EEAE1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C5A2A-A3B1-43FC-A47C-4795CA98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B54F-C0C9-4AC1-B7F9-63D90F7D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B37-6C70-4CB7-AC86-88D8CA80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B008-AB04-4838-9262-898C3F1A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885A8-B39E-4BDE-978B-19AA4158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35D63-56C3-4F6A-A929-E5768E2F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A7CF-DB0B-43BB-AF6F-7706C665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3EB48-CD45-4B45-B85D-4BAB70C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A3E9-7F1D-40F4-B9E2-E2D231D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9AC0F-844C-4342-BB5B-7A63177C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27CB-F0F1-4CC1-958B-6450B13A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6AF5-AA2A-4C17-A80D-154F6AC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89E3-166E-497E-9BCD-D0CB59E5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66B-5F50-4B05-AAFE-9F2E7E11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4BF2-497C-402B-BFC3-3CB8604C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15C2-E52D-44C4-9812-5EF40F8B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5B78-6B83-4278-B332-E33912B6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A255B-BDF9-452F-B935-D9C97938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0030-ECC7-49BC-AE39-2E122D1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12A8C-E097-44D3-BA6F-D4E44140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72B2-A41B-4CBE-9F4D-93B1E5E3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67FEB-7809-4795-9AD9-DED99FB7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C8F5D-745D-4F0D-8D15-7AD8CEB1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4F75D-21DD-489F-AFA7-C0A14324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FC6-33FD-4FD0-A946-16107473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06A5-5339-4B78-BBAB-01019F05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4E032-EB98-486C-908A-4A5B4821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B6E7F-4301-49D1-9C0B-8D6AEE9C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6205D-41F8-4539-AB32-98D7531C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4F28F-3E71-4535-8BBA-6C693E16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1C32-0E77-497C-8615-728D9F6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179A-66D7-41C8-8B3F-E151043F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C1D52-249F-44CC-AA5A-55D77795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A3EDB-F8FF-4033-8F32-3C0127E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F99F2-9C2D-43BC-AC37-B111D72D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EC8-1A0D-4BD2-AE4A-38D8379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8F76E-DD84-47DE-9A2D-A747D324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C733-3EF7-4E57-AECD-8974E6CD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D9965-ED25-4F7A-A220-2CBDF5EF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6D881-BC66-492C-A120-646E5142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1C344-C6E5-4590-9A99-E4143D72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1479-A86F-4FF0-AF60-3763F249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D587-6B73-45BF-9404-47DA7002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1D50F-5348-4D58-91A7-1E28FC16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B753C-9E12-4981-923A-ED134A92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C2F32-9611-4F4C-85E6-C1956D9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2B6-4501-4ADB-B137-7A9EDE65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B17A-30CE-4A41-B454-92FA955D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42CB4-E934-4028-84BD-78631FA4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18EB4-EEDA-4C54-9EB8-AAF2727B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E6ED8-7B6F-41CD-8EE5-DC9A2723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274D0-A7F5-45E5-9BDF-8C95D245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4D2A-8201-4561-856F-2A92E28D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D2802-BE9A-4EBA-9BBB-EA75076E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3AA79-8C6C-42D6-AF6D-7C92EC10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67A70-3BF4-4824-ACD2-6FF07701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7F5FB-BF2A-41DB-82E2-1D533A90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C6D-7726-42F9-BCEE-8400C2C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5F5C6-4344-4CD6-AF0C-8847DAF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A0384-5179-4775-A565-1A257B51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21440-9D38-46DA-94AE-A851B97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62B16-2A81-4C71-AFBB-A7F8B5C1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0CC20-0C0D-4B02-9804-AB3BEFC2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2ED7-1C22-4698-9FBA-8B05D22B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838FF-4D2B-479A-A496-47B56D95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14457-532E-4D1E-9FC4-BC9B67F6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8591AC-435B-4964-BB61-533ACF7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A9921-4CA4-423D-9DB2-A921E5A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72B8-293A-46A2-8144-A6CEF6A3C30C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8E69-EE11-4141-AEF3-C745D32715D1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8E9-5B59-4F37-AB29-165F0DDCCCCE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E73A-D243-4FCC-87C1-C36209D2FB2A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C05-9230-406A-A76D-8F19F9C0722E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4ED-4728-47D3-805F-CBA4FF83EA37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9903-E4DF-4D25-84D4-AE0614758AE5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9A51-EB34-462A-8D4D-9536F6A6E7DA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0125-BF75-4539-A4C6-2CCA2F588E1B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C561-150A-4F6C-891D-8ADCEC3126F6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AE5C-F950-449F-A485-8B6CE602B681}" type="slidenum"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57F1-D6AD-4E33-B4B2-E444CFF5399C}" type="slidenum">
              <a:rPr b="0" lang="en-GB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lds.ids.ac.uk/" TargetMode="External"/><Relationship Id="rId2" Type="http://schemas.openxmlformats.org/officeDocument/2006/relationships/hyperlink" Target="mailto:R.Playforth@ids.ac.uk" TargetMode="External"/><Relationship Id="rId3" Type="http://schemas.openxmlformats.org/officeDocument/2006/relationships/hyperlink" Target="http://twitter.com/archelina" TargetMode="External"/><Relationship Id="rId4" Type="http://schemas.openxmlformats.org/officeDocument/2006/relationships/hyperlink" Target="http://www.twitter.com/blds_library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34520" cy="12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646b86"/>
                </a:solidFill>
                <a:latin typeface="Georgia"/>
              </a:rPr>
              <a:t>Trigger’s cataloguer: 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24000" y="1699920"/>
            <a:ext cx="8503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4b5064"/>
                </a:solidFill>
                <a:latin typeface="Georgia"/>
              </a:rPr>
              <a:t>professional development by defaul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23476b"/>
                </a:solidFill>
                <a:latin typeface="Georgia"/>
              </a:rPr>
              <a:t>Rachel Playforth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23476b"/>
                </a:solidFill>
                <a:latin typeface="Georgia"/>
              </a:rPr>
              <a:t>Repository Coordinator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23476b"/>
                </a:solidFill>
                <a:latin typeface="Georgia"/>
              </a:rPr>
              <a:t>British Library for Development Studies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23476b"/>
                </a:solidFill>
                <a:latin typeface="Georgia"/>
              </a:rPr>
              <a:t>@archelina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3" descr="twitter.JPG"/>
          <p:cNvPicPr/>
          <p:nvPr/>
        </p:nvPicPr>
        <p:blipFill>
          <a:blip r:embed="rId1"/>
          <a:stretch/>
        </p:blipFill>
        <p:spPr>
          <a:xfrm>
            <a:off x="4067280" y="4149720"/>
            <a:ext cx="115236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Thank you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Rachel Playfor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ritish Library for Development Stud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blds.ids.ac.u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R.Playforth@ids.ac.u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a3d6"/>
                </a:solidFill>
                <a:uFillTx/>
                <a:latin typeface="Georgia"/>
                <a:hlinkClick r:id="rId3"/>
              </a:rPr>
              <a:t>@archelina</a:t>
            </a: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GB" sz="2000" spc="-1" strike="noStrike" u="sng">
                <a:solidFill>
                  <a:srgbClr val="00a3d6"/>
                </a:solidFill>
                <a:uFillTx/>
                <a:latin typeface="Georgia"/>
                <a:hlinkClick r:id="rId4"/>
              </a:rPr>
              <a:t>@blds_libr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3" descr="twitter.JPG"/>
          <p:cNvPicPr/>
          <p:nvPr/>
        </p:nvPicPr>
        <p:blipFill>
          <a:blip r:embed="rId5"/>
          <a:stretch/>
        </p:blipFill>
        <p:spPr>
          <a:xfrm>
            <a:off x="3780000" y="2133720"/>
            <a:ext cx="15141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17 new heads and 14 new hand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Picture 5" descr="typewriter.jpg"/>
          <p:cNvPicPr/>
          <p:nvPr/>
        </p:nvPicPr>
        <p:blipFill>
          <a:blip r:embed="rId1"/>
          <a:stretch/>
        </p:blipFill>
        <p:spPr>
          <a:xfrm>
            <a:off x="395280" y="2781360"/>
            <a:ext cx="2160720" cy="2152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8" descr="http://www.london-se1.co.uk/news/images/041112_unicorn3.jpg"/>
          <p:cNvPicPr/>
          <p:nvPr/>
        </p:nvPicPr>
        <p:blipFill>
          <a:blip r:embed="rId2"/>
          <a:stretch/>
        </p:blipFill>
        <p:spPr>
          <a:xfrm>
            <a:off x="2916360" y="2060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" descr="Sugarbabes+sb.jpg"/>
          <p:cNvPicPr/>
          <p:nvPr/>
        </p:nvPicPr>
        <p:blipFill>
          <a:blip r:embed="rId3"/>
          <a:stretch/>
        </p:blipFill>
        <p:spPr>
          <a:xfrm>
            <a:off x="6516720" y="2637000"/>
            <a:ext cx="20336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546d7a"/>
                </a:solidFill>
                <a:latin typeface="Georgia"/>
              </a:rPr>
              <a:t>A cataloguer by any other nam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Content Placeholder 4" descr="wordcloud.jpg"/>
          <p:cNvPicPr/>
          <p:nvPr/>
        </p:nvPicPr>
        <p:blipFill>
          <a:blip r:embed="rId1"/>
          <a:stretch/>
        </p:blipFill>
        <p:spPr>
          <a:xfrm>
            <a:off x="1116000" y="1612800"/>
            <a:ext cx="7010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Anatomy of a repository coordinato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3" name="Content Placeholder 3" descr=""/>
          <p:cNvPicPr/>
          <p:nvPr/>
        </p:nvPicPr>
        <p:blipFill>
          <a:blip r:embed="rId1"/>
          <a:stretch/>
        </p:blipFill>
        <p:spPr>
          <a:xfrm>
            <a:off x="255600" y="1365120"/>
            <a:ext cx="4091040" cy="46944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50% digitisation project coordination and repository wor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30% cataloguing and index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20% other stuff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18352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First, catch your exper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Content Placeholder 3" descr="yellowpages.jpg"/>
          <p:cNvPicPr/>
          <p:nvPr/>
        </p:nvPicPr>
        <p:blipFill>
          <a:blip r:embed="rId1"/>
          <a:stretch/>
        </p:blipFill>
        <p:spPr>
          <a:xfrm>
            <a:off x="324000" y="2060640"/>
            <a:ext cx="3933720" cy="29527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4858920" y="1700280"/>
            <a:ext cx="393228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Who else is doing this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re they doing it better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n they teach m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n they do it instead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TextBox 4"/>
          <p:cNvSpPr/>
          <p:nvPr/>
        </p:nvSpPr>
        <p:spPr>
          <a:xfrm>
            <a:off x="1627200" y="2060640"/>
            <a:ext cx="1355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ffffff"/>
                </a:solidFill>
                <a:latin typeface="Arial"/>
              </a:rPr>
              <a:t>Photo by amanda_ascani on Flick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" descr="cc-by-nc-nd.png"/>
          <p:cNvPicPr/>
          <p:nvPr/>
        </p:nvPicPr>
        <p:blipFill>
          <a:blip r:embed="rId2"/>
          <a:stretch/>
        </p:blipFill>
        <p:spPr>
          <a:xfrm>
            <a:off x="3059280" y="2060640"/>
            <a:ext cx="43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8352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Don’t lose (authority) contr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1" name="Content Placeholder 3" descr="control.JPG"/>
          <p:cNvPicPr/>
          <p:nvPr/>
        </p:nvPicPr>
        <p:blipFill>
          <a:blip r:embed="rId1"/>
          <a:stretch/>
        </p:blipFill>
        <p:spPr>
          <a:xfrm>
            <a:off x="446040" y="1989000"/>
            <a:ext cx="3834000" cy="295272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 txBox="1"/>
          <p:nvPr/>
        </p:nvSpPr>
        <p:spPr>
          <a:xfrm>
            <a:off x="4642920" y="1700280"/>
            <a:ext cx="39322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e strategic, not passiv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e prepared to find a new pass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ake a clean break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TextBox 4"/>
          <p:cNvSpPr/>
          <p:nvPr/>
        </p:nvSpPr>
        <p:spPr>
          <a:xfrm>
            <a:off x="2924280" y="1989000"/>
            <a:ext cx="1287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ffffff"/>
                </a:solidFill>
                <a:latin typeface="Arial"/>
              </a:rPr>
              <a:t>Photo by Hada del lago on Flick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cc-by-nc-nd.png"/>
          <p:cNvPicPr/>
          <p:nvPr/>
        </p:nvPicPr>
        <p:blipFill>
          <a:blip r:embed="rId2"/>
          <a:stretch/>
        </p:blipFill>
        <p:spPr>
          <a:xfrm>
            <a:off x="3780000" y="2205000"/>
            <a:ext cx="431640" cy="1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8352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Doing less with l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6" name="Content Placeholder 3" descr="empty.JPG"/>
          <p:cNvPicPr/>
          <p:nvPr/>
        </p:nvPicPr>
        <p:blipFill>
          <a:blip r:embed="rId1"/>
          <a:stretch/>
        </p:blipFill>
        <p:spPr>
          <a:xfrm>
            <a:off x="395280" y="1700280"/>
            <a:ext cx="4033800" cy="316872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4716000" y="1699920"/>
            <a:ext cx="3932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ay no (even to the good stuff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peciali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mbrace ignora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TextBox 4"/>
          <p:cNvSpPr/>
          <p:nvPr/>
        </p:nvSpPr>
        <p:spPr>
          <a:xfrm>
            <a:off x="2995200" y="4653000"/>
            <a:ext cx="134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000000"/>
                </a:solidFill>
                <a:latin typeface="Arial"/>
              </a:rPr>
              <a:t>Photo by strangelibrarian on Flick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cc-by-nc-nd.png"/>
          <p:cNvPicPr/>
          <p:nvPr/>
        </p:nvPicPr>
        <p:blipFill>
          <a:blip r:embed="rId2"/>
          <a:stretch/>
        </p:blipFill>
        <p:spPr>
          <a:xfrm>
            <a:off x="3924360" y="4508640"/>
            <a:ext cx="43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The myth of time manag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Being organised /= more tim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Effort vs duratio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ore organised ≠ more tim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anage expectations inste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ffort vs dur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3" name="Content Placeholder 4" descr="clocks.JPG"/>
          <p:cNvPicPr/>
          <p:nvPr/>
        </p:nvPicPr>
        <p:blipFill>
          <a:blip r:embed="rId1"/>
          <a:stretch/>
        </p:blipFill>
        <p:spPr>
          <a:xfrm>
            <a:off x="324000" y="191628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cc-by-nc-nd.png"/>
          <p:cNvPicPr/>
          <p:nvPr/>
        </p:nvPicPr>
        <p:blipFill>
          <a:blip r:embed="rId2"/>
          <a:stretch/>
        </p:blipFill>
        <p:spPr>
          <a:xfrm>
            <a:off x="1979640" y="4797360"/>
            <a:ext cx="398520" cy="13968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257040" y="4653000"/>
            <a:ext cx="157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Photo by MyEyeSees on Flick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646b86"/>
                </a:solidFill>
                <a:latin typeface="Georgia"/>
              </a:rPr>
              <a:t>They are not a (call) numb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7" name="Content Placeholder 3" descr="barcode.jpg"/>
          <p:cNvPicPr/>
          <p:nvPr/>
        </p:nvPicPr>
        <p:blipFill>
          <a:blip r:embed="rId1"/>
          <a:stretch/>
        </p:blipFill>
        <p:spPr>
          <a:xfrm>
            <a:off x="250920" y="1773360"/>
            <a:ext cx="4119480" cy="30240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4716000" y="1916280"/>
            <a:ext cx="3932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inear cataloguing vs non-linear peop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Everyone has an agenda, but..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e ‘reverse paranoid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690120" y="4437000"/>
            <a:ext cx="1372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ffffff"/>
                </a:solidFill>
                <a:latin typeface="Arial"/>
              </a:rPr>
              <a:t>Photo by katiemarinascott on Flick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cc-by-nc-nd.png"/>
          <p:cNvPicPr/>
          <p:nvPr/>
        </p:nvPicPr>
        <p:blipFill>
          <a:blip r:embed="rId2"/>
          <a:stretch/>
        </p:blipFill>
        <p:spPr>
          <a:xfrm>
            <a:off x="2050920" y="4508640"/>
            <a:ext cx="4334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0:37:23Z</dcterms:created>
  <dc:creator>rachelp</dc:creator>
  <dc:description/>
  <dc:language>en-US</dc:language>
  <cp:lastModifiedBy>Rachel Playforth</cp:lastModifiedBy>
  <dcterms:modified xsi:type="dcterms:W3CDTF">2012-09-19T15:30:09Z</dcterms:modified>
  <cp:revision>98</cp:revision>
  <dc:subject/>
  <dc:title>First, catch your expert</dc:title>
</cp:coreProperties>
</file>