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204CA-DD37-45C8-871F-AC8DF4AF3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BEC0A-F3EC-4010-92E4-B8D9128F0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1417F-1C25-4CD0-B61F-CFD2FC2EC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7560A-00D4-4872-AA5E-8DCF0C686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A6864-4DFB-4E97-9A82-78E633D13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99940-C531-4B35-8847-DED0AA07A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A5DEF-A9D3-4A03-9614-4DD36D92E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66415-06AA-4EC2-8458-8B672348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FC078-5283-4618-873E-44CC23633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B9AAF-C2A7-404C-BE91-C3F36257F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ED1F-0EA4-4310-8AF3-7BA3130FD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A2205-95E9-4033-AA9A-572403A90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28E6-1C62-4C0C-9BE2-C9F4165645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Gender, Education and Global Poverty Reduction Initiatives</a:t>
            </a:r>
            <a:br>
              <a:rPr sz="1800"/>
            </a:br>
            <a:br>
              <a:rPr sz="3200"/>
            </a:br>
            <a:r>
              <a:rPr b="1" lang="en-GB" sz="4000" spc="-1" strike="noStrike">
                <a:solidFill>
                  <a:srgbClr val="000000"/>
                </a:solidFill>
                <a:latin typeface="Times New Roman"/>
                <a:ea typeface="Times New Roman"/>
              </a:rPr>
              <a:t>The Struggle for a Gender Focus: Negotiated Meanings in Global Education Institution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343400"/>
            <a:ext cx="6400800" cy="1295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my North,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titute of Education, University of Lond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July 2008</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4000" spc="-1" strike="noStrike">
                <a:solidFill>
                  <a:srgbClr val="000000"/>
                </a:solidFill>
                <a:latin typeface="Times New Roman"/>
                <a:ea typeface="Times New Roman"/>
              </a:rPr>
              <a:t>Who are the key global players?</a:t>
            </a:r>
            <a:r>
              <a:rPr b="0" lang="en-GB"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EFA movement</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 agencies: UNESCO, UNICEF, UNGE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ivil Society: Global Campaign for Education and INGOs (plus regional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i-lateral don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orld Bank/Fast Track Initiativ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ender (and Develop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 agencies esp UNIFEM</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ivil Society:Women’s networks and organisations, some ING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Bi-lateral dono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research</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cument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depth, semi-structured interviews </a:t>
            </a:r>
            <a:endParaRPr b="0" lang="en-US" sz="3200" spc="-1" strike="noStrike">
              <a:solidFill>
                <a:srgbClr val="000000"/>
              </a:solidFill>
              <a:latin typeface="Times New Roman"/>
            </a:endParaRPr>
          </a:p>
          <a:p>
            <a:pPr lvl="1" marL="743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what you have done - I have also been reflecting on these issues too. I was like, “I don’t know how I am going to answer these questions” but [the interview] has really helped me reflec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Meanings of gender</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a noun</a:t>
            </a:r>
            <a:endParaRPr b="0" lang="en-US" sz="2800" spc="-1" strike="noStrike">
              <a:solidFill>
                <a:srgbClr val="000000"/>
              </a:solidFill>
              <a:latin typeface="Times New Roman"/>
            </a:endParaRPr>
          </a:p>
          <a:p>
            <a:pPr marL="3016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To me I think the big challenge that remains for us is the access issue</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a noun and an adjective</a:t>
            </a:r>
            <a:endParaRPr b="0" lang="en-US" sz="2800" spc="-1" strike="noStrike">
              <a:solidFill>
                <a:srgbClr val="000000"/>
              </a:solidFill>
              <a:latin typeface="Times New Roman"/>
            </a:endParaRPr>
          </a:p>
          <a:p>
            <a:pPr marL="3016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the crucial gender issues have been about power… </a:t>
            </a:r>
            <a:r>
              <a:rPr b="0" i="1" lang="en-GB" sz="2000" spc="-1" strike="noStrike">
                <a:solidFill>
                  <a:srgbClr val="000000"/>
                </a:solidFill>
                <a:latin typeface="Times New Roman"/>
                <a:ea typeface="Times New Roman"/>
              </a:rPr>
              <a:t>“I would not look at access only… Girls are being enrolled in schools and… they drop out quickly… not because they lack interest… but because the school environment is not conducive. There are issues about sexual violence” </a:t>
            </a:r>
            <a:endParaRPr b="0" lang="en-US" sz="20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a verb </a:t>
            </a:r>
            <a:endParaRPr b="0" lang="en-US" sz="2800" spc="-1" strike="noStrike">
              <a:solidFill>
                <a:srgbClr val="000000"/>
              </a:solidFill>
              <a:latin typeface="Times New Roman"/>
            </a:endParaRPr>
          </a:p>
          <a:p>
            <a:pPr marL="3016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It’s the actual fact of the power imbalance between males and females and how that is perpetuated in both personal spaces and institutional spaces and then reinforced through legislation, tradition, cultural roles.</a:t>
            </a:r>
            <a:r>
              <a:rPr b="0" lang="en-GB"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Bo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ender, education and poverty linkag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chooling = gender equality and poverty reduction</a:t>
            </a:r>
            <a:endParaRPr b="0" lang="en-US" sz="2800" spc="-1" strike="noStrike">
              <a:solidFill>
                <a:srgbClr val="000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ea typeface="Times New Roman"/>
              </a:rPr>
              <a:t>you would rarely see an educated women who is not doing economically wel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production or transformation of inequality</a:t>
            </a:r>
            <a:endParaRPr b="0" lang="en-US" sz="2800" spc="-1" strike="noStrike">
              <a:solidFill>
                <a:srgbClr val="000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ea typeface="Times New Roman"/>
              </a:rPr>
              <a:t>The school should be a space that is stimulating and empowering for girls and in most cases its no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Gender at the centre</a:t>
            </a:r>
            <a:endParaRPr b="0" lang="en-US" sz="2800" spc="-1" strike="noStrike">
              <a:solidFill>
                <a:srgbClr val="000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ea typeface="Times New Roman"/>
              </a:rPr>
              <a:t>it is very difficult to see effective action at eradicating poverty, without actually dealing with gender issues in a fairly systematic way”</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Global frameworks: The MDG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Limited but useful</a:t>
            </a:r>
            <a:endParaRPr b="0" lang="en-US" sz="2800" spc="-1" strike="noStrike">
              <a:solidFill>
                <a:srgbClr val="000000"/>
              </a:solidFill>
              <a:latin typeface="Times New Roman"/>
            </a:endParaRPr>
          </a:p>
          <a:p>
            <a:pPr lvl="1" marL="743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ea typeface="Times New Roman"/>
              </a:rPr>
              <a:t>its pretty clear, it’s a desirable goal, its what we all wan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cern with implementation and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aming of goals inherently problematic</a:t>
            </a:r>
            <a:endParaRPr b="0" lang="en-US" sz="2800" spc="-1" strike="noStrike">
              <a:solidFill>
                <a:srgbClr val="000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ea typeface="Times New Roman"/>
              </a:rPr>
              <a:t>The MDG narrowly focuses on this sort of parity question which is quite limiting and leads to quite… instrumentalist interventions rather than things that are committed to a transformation”</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Institutionalising</a:t>
            </a:r>
            <a:r>
              <a:rPr b="1" lang="en-GB" sz="4400" spc="-1" strike="noStrike">
                <a:solidFill>
                  <a:srgbClr val="000000"/>
                </a:solidFill>
                <a:latin typeface="Times New Roman"/>
                <a:ea typeface="Times New Roman"/>
              </a:rPr>
              <a:t> gend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llowing the frameworks</a:t>
            </a:r>
            <a:endParaRPr b="0" lang="en-US" sz="2800" spc="-1" strike="noStrike">
              <a:solidFill>
                <a:srgbClr val="000000"/>
              </a:solidFill>
              <a:latin typeface="Times New Roman"/>
            </a:endParaRPr>
          </a:p>
          <a:p>
            <a:pPr marL="3222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t>
            </a:r>
            <a:r>
              <a:rPr b="0" i="1" lang="en-GB" sz="1800" spc="-1" strike="noStrike">
                <a:solidFill>
                  <a:srgbClr val="000000"/>
                </a:solidFill>
                <a:latin typeface="Times New Roman"/>
                <a:ea typeface="Times New Roman"/>
              </a:rPr>
              <a:t>The legislation forms a framework that can push us… in terms of advocacy whether internal or external, they are very useful</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llowing the competition</a:t>
            </a:r>
            <a:endParaRPr b="0" lang="en-US" sz="2800" spc="-1" strike="noStrike">
              <a:solidFill>
                <a:srgbClr val="000000"/>
              </a:solidFill>
              <a:latin typeface="Times New Roman"/>
            </a:endParaRPr>
          </a:p>
          <a:p>
            <a:pPr marL="3222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Times New Roman"/>
              </a:rPr>
              <a:t>“</a:t>
            </a:r>
            <a:r>
              <a:rPr b="0" i="1" lang="en-GB" sz="1800" spc="-1" strike="noStrike">
                <a:solidFill>
                  <a:srgbClr val="000000"/>
                </a:solidFill>
                <a:latin typeface="Times New Roman"/>
                <a:ea typeface="Times New Roman"/>
              </a:rPr>
              <a:t>because XXXX, it’s because they are seen as competitors essentially. And that kind of reflects the kind of business focus that I think XXXX and other agencies, yeah, it is a very very competitive environment”</a:t>
            </a:r>
            <a:endParaRPr b="0" lang="en-US" sz="1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cusing on right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ling with resistance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p down or bottom up?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5T18:54:47Z</dcterms:created>
  <dc:creator>amy&amp;hugo</dc:creator>
  <dc:description/>
  <dc:language>en-US</dc:language>
  <cp:lastModifiedBy>mhhefpsb</cp:lastModifiedBy>
  <dcterms:modified xsi:type="dcterms:W3CDTF">2009-07-13T15:49:19Z</dcterms:modified>
  <cp:revision>6</cp:revision>
  <dc:subject/>
  <dc:title>Gender, Education and Global Poverty Reduction Initiatives  The Struggle for a Gender Focus: Negotiated Meanings in Global Education Institutions</dc:title>
</cp:coreProperties>
</file>